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44C3-E6C0-48E2-BD2E-1D96B5C2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EA2D-98DA-4FFD-8651-6A9AC561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7097-9629-4AC8-B8B2-044E83E2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B5CF-03D5-4548-803D-CFBF6813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A56E-3E68-46E6-BEC9-6F81072A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1A04-FA7E-4A70-927D-9DA2EC8E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8637-033D-4891-BF9B-7704FE71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02B0-2C36-4B15-8811-FB2D31A4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5E8F-342F-413A-925F-C0D6750F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E53D-4BBF-44EA-9F40-0A15E386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4B03-161E-449B-BD3C-56E13BC2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E374-114D-448B-9C85-2EE685C9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1929-3443-4BFD-B185-900C75E55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idence Interval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or R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162560" cy="3276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90720" y="3809880"/>
            <a:ext cx="71625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553080" cy="2438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71600" y="3429000"/>
            <a:ext cx="65530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620120" cy="1904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7620120" cy="1523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38080" y="3505320"/>
            <a:ext cx="7620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467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1629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2622600"/>
            <a:ext cx="7543800" cy="2940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543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7696080" cy="1676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7696080" cy="2133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3124080"/>
            <a:ext cx="76960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 equivalent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4419720"/>
            <a:ext cx="769644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69644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38080" y="609480"/>
            <a:ext cx="7696440" cy="1676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38080" y="2286000"/>
            <a:ext cx="76964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 equivalent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962520"/>
            <a:ext cx="76964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91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3T21:24:58Z</dcterms:modified>
  <cp:revision>41</cp:revision>
  <dc:subject/>
  <dc:title>PowerPoint Presentation</dc:title>
</cp:coreProperties>
</file>